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0C52-C8EC-4E83-A18C-06F71D88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2CA-46EA-47E9-893C-32617C04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8A1-69AE-454E-9B73-4EF68819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3DA0-747F-4DB8-96DB-49F164A2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059F-38DF-4DAD-BA06-6AF16083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B94E-89F0-42F7-ABA1-217C1DD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18E0-90C8-41E7-8E96-CF7400C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1810-9B3D-4D95-9182-1E26E8FA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D4E7-5ABD-46E2-8EF9-25925219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353C-B09C-45A7-8B2B-5DD3422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76C1-2241-4077-83C3-AB11BA22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AA3-0D15-4713-BD55-70A53FB8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FA76-88E6-40B6-B7BB-327F0D7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32C2-C0C1-45B0-91BE-3E5FE2D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F0A1-E329-477A-9AC4-3B58A182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5AE-9802-4973-9D50-7AF23CC1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BEB3-4ACA-43E1-AEC0-DA91A8DF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13CF8-E16E-48FF-9742-61C77617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BB77-7A3F-422C-8748-B3E7CB77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DD79-E695-4575-AFB8-F9A13FAF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EFDD-D9F0-4793-B2F9-C4BE06E6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FED4-1E0A-4494-BC50-BE7F77B9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50C-56D6-43BE-9427-4A8AF6B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6E0A-564C-4C65-9B2A-480313A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B1B4A-1E28-40E8-8835-ABF0A09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760E-EB85-481F-8297-C1747D5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8075A-3A67-467F-9E11-FC8393DD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EB0D6-DF8F-4256-AEDA-2A0DCAD5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EA3F5-896F-48C8-8AB7-62BC0E81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3175-2A80-4AE7-A764-4B8473A0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E1CB5-F263-4AFD-9887-AB01C698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DEA4-B451-45D0-9EB0-3058770F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F9C05-18A7-4174-A66A-2C94583E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72D-E53B-4F5D-A47E-88AD7BEA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699E-9561-4187-B956-1838002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B44A-9F97-4DA6-B8A8-17467AC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14BD-24A8-4309-9807-7CD41A8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0F7A-BBF7-4B87-86C3-3028CA6A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7A40-6D32-4B55-BFFC-08E1F6D9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8EF13-5AAD-4681-8C32-D4D47AA1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B40F-7EBF-42CC-AF0A-AD5DAEED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F912-081C-47CF-8460-7444BE7C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4D2C4-D25F-4ABE-B874-B1A303E3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66B1-CD02-49CC-84EA-0F16A846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7C1-AD37-4660-80F6-D40BFF34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FBB03-C4E7-44EC-97B5-B535B5E4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1ECD-5F9F-4AEA-9FF0-436CABC8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FA8C-731D-4D72-95D8-5AD023B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2C1C-0461-4B20-90BA-C43958B4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91681-A3A4-4F46-8D3C-4F2818D1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6CDC6-0B1B-42B7-9E2D-C5F3C27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F0A13-BE61-42C4-AB49-AAC814B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0461-4E49-4CC2-9EB4-4E7F488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A853C-FB5F-4A5E-9CD1-D534DF3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9B1D0-10DE-4BDF-8855-501F831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1EA-1453-4602-8FFB-9380D098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385F8-A006-471F-93E5-7EA991C6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2978B-A55D-4CE2-83A2-23565F1D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9E1AA-9A0B-44E3-BF94-A2DCAB6D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8F629-7180-4777-BB50-4A26FBE9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F7D2-6F68-43D3-8538-B2D7573A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5D51-B023-408A-9F64-C71D3FDD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93F1F-9561-4965-9DBF-3AD6660A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73BC7-8360-446C-8D31-81F7CC5B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6619-0D6B-499D-8C77-26CA733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2AA0-030A-48E3-873A-D330BFD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880-C6F0-4F6D-BA60-3C07FD6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B05C2-3A95-4E69-9A9B-83DAB6EE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04BC6-BBED-48F9-98F9-2902DD65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554E9-B945-4587-B1B5-C46BD181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C9CD3-BE02-483E-A998-7C5C6849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E45F7-32F6-4E6B-92A7-12E3C09A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CF82-31B8-440D-B227-32167138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73631-042E-4482-80A0-DA19CBFC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45F3F-6CA3-4BC9-9DAF-21A294C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0289D-80DA-4402-B6A9-BFD227C2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45B6E-0721-4D7B-86B0-F0ADF30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9A4-294F-4ECC-95E8-F25E72E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F10AF-C74B-40BC-BF85-F0714E0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04C0-429A-4A10-853B-9443928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8E4E-3291-4580-A8C1-A3213F64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16FA0-0CCD-4238-B01D-551B8702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96B4B-6F95-4D86-8BC5-4F932FF9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CF4-5686-41EC-8040-DDDB1DD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D56B-32AF-492F-AE45-5A638141BCC2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2A4A-F3A8-40CE-9576-BCDB8401CAB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4DF3-FDA0-4000-94D9-B7FC50E3647C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13B-A07C-41A8-B5D4-4169DF17C5F8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4EE3-E202-4E7E-9F9F-A6DBD08E5D76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5A3C-454A-4041-A9AD-6BAD6884B12C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20AE-DF4D-4BDA-A9BA-C581266A6856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6F4-3E79-4052-AE59-842912B0E06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2449-CA84-46FD-BEDD-3DBE67D8B52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3D7-68BE-4CB0-BD6B-70CE4C444CC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1C8F-CABF-4637-9338-EB13CAD2C6E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096-0904-49B6-B361-2C24E65CCC2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57BF-518F-4092-A463-308B402DEB7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13AC-5FFE-416A-9B30-AC87098DE3A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mp-brno.cz/Co-je-mozkova-prihoda-mrtvice.html" TargetMode="External"/><Relationship Id="rId2" Type="http://schemas.openxmlformats.org/officeDocument/2006/relationships/hyperlink" Target="http://www.wikiskripta.eu/index.php/C&#233;vn&#237;_mozkov&#233;_p&#345;&#237;hody/PGS" TargetMode="External"/><Relationship Id="rId3" Type="http://schemas.openxmlformats.org/officeDocument/2006/relationships/hyperlink" Target="http://www.wikiskripta.eu/index.php/C&#233;vn&#237;_mozkov&#233;_p&#345;&#237;hody/PGS" TargetMode="External"/><Relationship Id="rId4" Type="http://schemas.openxmlformats.org/officeDocument/2006/relationships/hyperlink" Target="http://www.wikiskripta.eu/index.php/Krv&#225;cen&#237;_do_mozku" TargetMode="External"/><Relationship Id="rId5" Type="http://schemas.openxmlformats.org/officeDocument/2006/relationships/hyperlink" Target="http://www.priznaky-projevy.cz/neurologie-neurochirugie/subduralni-krvaceni-subduralni-hematom-priznaky-projevy-symptomy-obrazek-fotografie" TargetMode="External"/><Relationship Id="rId6" Type="http://schemas.openxmlformats.org/officeDocument/2006/relationships/hyperlink" Target="http://www.wikiskripta.eu/index.php/Krv&#225;cen&#237;_do_mozkov&#233;ho_parenchymu" TargetMode="External"/><Relationship Id="rId7" Type="http://schemas.openxmlformats.org/officeDocument/2006/relationships/hyperlink" Target="http://cmp-manual.wbs.cz/500-SUBARACHNOIDALNI-KRVACENI.html" TargetMode="External"/><Relationship Id="rId8" Type="http://schemas.openxmlformats.org/officeDocument/2006/relationships/hyperlink" Target="http://www.priznaky-projevy.cz/neurologie-neurochirugie/subduralni-krvaceni-subduralni-hematom-priznaky-projevy-symptomy-obrazek-fotografie" TargetMode="External"/><Relationship Id="rId9" Type="http://schemas.openxmlformats.org/officeDocument/2006/relationships/hyperlink" Target="http://www.stefajir.cz/?q=epiduralni-hematom" TargetMode="External"/><Relationship Id="rId10" Type="http://schemas.openxmlformats.org/officeDocument/2006/relationships/hyperlink" Target="http://www.wikiskripta.eu/index.php/Ed&#233;m_mozku" TargetMode="External"/><Relationship Id="rId11" Type="http://schemas.openxmlformats.org/officeDocument/2006/relationships/hyperlink" Target="http://www.priznaky-projevy.cz/neurologie-neurochirugie/otok-mozku-priznaky-projevy-symptomy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ulan.cz/Neurodegenerativn&#237;_onemocn&#283;n&#237;" TargetMode="External"/><Relationship Id="rId2" Type="http://schemas.openxmlformats.org/officeDocument/2006/relationships/hyperlink" Target="http://www.wikiskripta.eu/index.php/Neurodegenerativn&#237;_onemocn&#283;n&#237;" TargetMode="External"/><Relationship Id="rId3" Type="http://schemas.openxmlformats.org/officeDocument/2006/relationships/hyperlink" Target="http://www.stefajir.cz/?q=alzheimerova-choroba" TargetMode="External"/><Relationship Id="rId4" Type="http://schemas.openxmlformats.org/officeDocument/2006/relationships/hyperlink" Target="http://www.wikiskripta.eu/index.php/Spin&#225;ln&#237;_svalov&#233;_atrofie_%28pediatrie%29" TargetMode="External"/><Relationship Id="rId5" Type="http://schemas.openxmlformats.org/officeDocument/2006/relationships/hyperlink" Target="http://parkinsonova-choroba.cz/parkinsonova-choroba.html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Hnisav&#225;_meningitida_%28infekce%29" TargetMode="External"/><Relationship Id="rId2" Type="http://schemas.openxmlformats.org/officeDocument/2006/relationships/hyperlink" Target="http://www.wikiskripta.eu/index.php/Virov&#233;_infekce_nervov&#233;ho_syst&#233;mu" TargetMode="External"/><Relationship Id="rId3" Type="http://schemas.openxmlformats.org/officeDocument/2006/relationships/hyperlink" Target="http://www.wikiskripta.eu/index.php/Encefalitida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77320" cy="26085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oruchy nervového systému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9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6.3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</a:t>
            </a:r>
            <a:r>
              <a:rPr b="1" lang="cs-CZ" sz="16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9 zahrnuje pojmy: místní poruchy oběhu v nervovém systému, ischemie mozku, krvácení do mozku, angiosklerotická encefalopatie, edém mozku, atrofie CNS, záněty CNS, nádory nervového systému. Prezentace je zakončena sérií otázek k opakování.</a:t>
            </a:r>
            <a:endParaRPr b="1" lang="en-US" sz="16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rbel"/>
              </a:rPr>
              <a:t>[online]. [cit. 2014-03-24]. Dostupné z: http://www.lf3.cuni.cz/opencms/export/sites/www.lf3.cuni.cz/cs/pracoviste/fyziologie/PROJEKT-OPPA/3---Patologie-CNS.ppt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oruchy nervového systému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eurony jsou mimořádně citlivé na nedostatek kyslíku a nemají schopnost regener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Místní poruchy oběhu v nervovém systém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Ischemie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Infarkt mozku  = klinicky se projeví jako iktus (mrtvice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Angiosklerotická encefoalopati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Intrakraniální krvácení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priznaky-projevy.cz/neurologie-neurochirugie/subduralni-krvaceni-subduralni-hematom-priznaky-projevy-symptomy-obrazek-fotografi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Mozkové krvácení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Extracerebrální krvácení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ubarachnoidální hematom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http://cmp-manual.wbs.cz/500-SUBARACHNOIDALNI-KRVACENI.html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orbel"/>
                <a:hlinkClick r:id="rId8"/>
              </a:rPr>
              <a:t>Subdurální hemato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orbel"/>
                <a:hlinkClick r:id="rId9"/>
              </a:rPr>
              <a:t>Epidurální hemato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0"/>
              </a:rPr>
              <a:t>Edém mozku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11"/>
              </a:rPr>
              <a:t>http://www.priznaky-projevy.cz/neurologie-neurochirugie/otok-mozku-priznaky-projevy-symptomy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Atrofie C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kulan.cz/Neurodegenerativn%C3%AD_onemocn%C4%9Bn%C3%AD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wikiskripta.eu/index.php/Neurodegenerativn%C3%AD_onemocn%C4%9Bn%C3%AD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enilní atrofie C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Alzheimerova chorob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ystémová atrof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Spinální atrof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Parkinsonova chorob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áněty CNS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nisavá mening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Meningitid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Encefal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líšťová encefal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ětská obrna (poliomyelitis acuta anter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yel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ncefalomyel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Roztroušená skleróza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cs.wikipedia.org/wiki/Roztrou%C5%A1en%C3%A1_skler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kutní roztroušená myel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ádory nervového systém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imární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ekundár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ttp://www.wikiskripta.eu/index.php/WHO_klasifikace_n%C3%A1dor%C5%AF_centr%C3%A1ln%C3%AD_nervov%C3%A9_soustav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ttp://www.wikiskripta.eu/index.php/Melanom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…? + popište příznak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ozková mrtvice (iktu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ětská obr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dém mozk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rvácení do mozku a intrakraniální krvác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nisavá leptomening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lzheimerova chorob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arkinsonova chorob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6:47:33Z</dcterms:created>
  <dc:creator>Veronika</dc:creator>
  <dc:description/>
  <dc:language>en-US</dc:language>
  <cp:lastModifiedBy>Chalupna</cp:lastModifiedBy>
  <dcterms:modified xsi:type="dcterms:W3CDTF">2014-03-31T21:34:28Z</dcterms:modified>
  <cp:revision>67</cp:revision>
  <dc:subject/>
  <dc:title>Snímek 1</dc:title>
</cp:coreProperties>
</file>